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6.wmf" ContentType="image/x-wmf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70E5-3D57-4BD7-B70A-75F1973F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62A3-E964-425D-B00B-689EAA3B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80F8-507E-4A9B-A5A3-B84416B42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7A38-7A49-4E51-9DE5-D70629905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8053-3B4D-4A8D-ADFA-C6FEB50B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F063-AC1A-4B22-ABC5-E47A165B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87A7-BE2D-47FF-A307-E8F52F2C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9653-6077-4753-890F-D72CA59A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FF51-EC9E-4FEA-9BBE-D34E2646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211C-2D52-4CD3-A7F4-D284C322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B3E5-3041-4782-8E57-100100F6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BA37-73FD-4D31-902A-855F8183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890A-057D-410F-83DD-D9202DD82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7.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s of Linear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22096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pplications of Linea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60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4724280" cy="600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09480" y="2438280"/>
            <a:ext cx="4876920" cy="736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80880" y="6019920"/>
            <a:ext cx="7848720" cy="608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6019920"/>
            <a:ext cx="7772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09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8600" y="6176880"/>
            <a:ext cx="8153280" cy="452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6172200"/>
            <a:ext cx="78483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381880" cy="1274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09680" y="2590920"/>
            <a:ext cx="1371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20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9480" y="2286000"/>
            <a:ext cx="7315200" cy="1673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04920" y="4191120"/>
            <a:ext cx="845820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1344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5791320" cy="841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2590920"/>
            <a:ext cx="5638680" cy="1352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28600" y="5867280"/>
            <a:ext cx="7848720" cy="392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5867280"/>
            <a:ext cx="76960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51055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3809880"/>
            <a:ext cx="36576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What did you find most difficult about writing systems of equations to solve word probl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*Remember to date and highlight this entry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80880" y="5486400"/>
            <a:ext cx="6096240" cy="976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0880" y="5486400"/>
            <a:ext cx="60199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21:52:17Z</dcterms:created>
  <dc:creator>Susannah Graham</dc:creator>
  <dc:description/>
  <dc:language>en-US</dc:language>
  <cp:lastModifiedBy>BRSD</cp:lastModifiedBy>
  <dcterms:modified xsi:type="dcterms:W3CDTF">2010-04-12T13:13:31Z</dcterms:modified>
  <cp:revision>4</cp:revision>
  <dc:subject/>
  <dc:title>Lesson 7.4 Applications of Linear Systems</dc:title>
</cp:coreProperties>
</file>